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B1C-6382-4783-A01D-8CA0FECE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4A9-DCA9-4893-A33E-51FA57B3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C3CA1-634F-4747-A3FC-2AAFCB9A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1D16C-B8F3-43F3-8D7F-78B6D130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8FC9C-D08C-4AB6-9C38-DC046EBD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709A6-6E50-4B16-96A2-EB6116AA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60F69-F092-4FCC-A86F-EE900CF0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4EC74-6DEB-487E-AA4B-34958351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B3DB5-A982-4111-8E8F-A5021A2C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138AA-3E4A-42DC-B175-BCA719A8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2ED96-F8AB-4A10-A521-16465262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440B5-1F11-49B5-A58A-91700DCB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C8A-F87F-4BA1-B040-D3CA8A6A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51B52-A146-40E7-80EA-1795C4B2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7F217-B845-4B5F-BD48-A3DC6585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2FF1B-ED46-48FA-87A3-CCF300A6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BC015-0F4F-41BA-9E73-CC8E697F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00E03-1428-4C1C-A3DA-A0519DC7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FB5BE-CFF1-4EC8-B3EC-FDBC3846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565BA-2015-4E36-A0A5-A1CCE565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AE549-BD22-4D84-9F4E-E19225F8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945F1-2582-4DF8-9730-377A521A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4AE5A-C007-4E0E-9759-30312B61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A311-C745-4ED3-A160-77519EF4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8C013-F031-4B60-9A33-923E397D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3C775-1902-4921-9D88-AE7A3073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47EA8-627F-4D3C-B8EA-30AE7BD0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11605-53DF-4105-A90F-835606D2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EDAA6-0A8D-4A6B-AC3A-BFD601DD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AD735-4ABA-4B2A-AC81-80112E2C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2EBF5-A03A-4987-B822-2181E96B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216AD-097A-45E6-9E0E-A513C56D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CBEA1-F618-483B-A10D-6DD91344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83E14-DDE8-43B5-B81A-2C05D6F6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FEA8-5E26-4F1D-8ABC-2C5BCDD0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D9CC9-883A-4143-AD7F-F2B63588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FEB4A-8ABD-4320-9D6E-942E81D3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10EE4-AF9C-44C8-A102-0CFE71EE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26A7F-95AA-4CBF-8823-9BB79C65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812D2-C4E6-4B7E-8BC4-D240FF1F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3DB30-DD43-4E30-880A-EDE9E705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046EB-DC8B-4A63-9440-FE8DC38E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7059F-913C-4C7C-A1D3-3D8EBFB0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697ED-AD25-4038-8B65-88FE9F41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8C501-DA8C-4B22-ACB2-94FF002C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9A77-3D41-492A-84CA-C15F304F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F0ABC-D569-48B6-AE9A-1307B042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74E7C-E65F-4F2C-8E07-CCEA008A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DDCB9-9594-40CD-8033-21528BCF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5CFB9-6E62-4181-B1E6-BCC9C8BE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2430E-5B0E-4897-9396-0441E87A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60AC-2BD1-41A8-985A-1E11050D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5423-90B6-4503-9075-581202C7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96D6-B2A1-49D7-A62C-743F687C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D77E-7659-4ABD-8A2B-6CB0127A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6C4F-B651-48AE-909E-C30B52A9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FBB-FF3A-4D0B-8CDD-6DFEBB00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3D79-4DD4-4123-BC8F-B90D7097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5B5E-E2FC-4087-B290-DDD2AAE1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9147-F87E-4E5C-AA53-9770476D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0091-6963-42C7-8A3D-4162633C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786C-09AD-4428-8B9C-BAA27F51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2D1D4-57A7-4AB7-9F6C-36DF3FBA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4A3DF-D6E5-4BF2-8571-F19CF507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4127C-C8B3-43B3-828D-C22CED59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B98FC-DF46-47B5-BC3B-6FA9C584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392FC-9693-48D3-A134-52FB0FD7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E871-9036-4172-889D-2E484BA6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7FB9F-0166-49CD-88D2-1D011A66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6FFC5-AEFA-4D2B-8AF7-38DBF706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0F529-7814-46AD-A88D-070A78D9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C560C-B38B-4097-8AA5-968AA62F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8AE91-E8D1-477A-8784-979B676B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D145B-DC5A-4117-827F-2BEB4BF0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88119-EF04-4074-B027-E23A4506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5183F-5788-4782-92C9-4067A2CD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58680-90D6-4FC4-A28A-B0C2956C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974ED-C1CB-4492-8F8A-D20AF2B4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B26F-2B42-49CE-B30C-D2242B77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A34F3-2186-4867-A185-43FF9314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5FCD8-45C0-425C-801F-30E3CD52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7BFEA-033A-4791-8457-4090DFF5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FC65F-0CD1-4373-9B8D-10D6FBE3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C90DC-E384-4247-86DE-7745093B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99B9D-3AD4-447E-9003-00AC486D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02E94-16D3-4C56-81DE-99A759B6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36016-C8C6-4704-B971-DE4D3A53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D938C-1A61-4D28-AF3B-C75425F1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0D03F-9680-499C-8F33-E8228410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550-807E-46D4-A898-DD367E78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A6C72-9FCD-4645-98F8-FC10EFA0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80887-A51B-4C59-8957-1136C6EF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45198-9EF0-4DF7-A651-79853428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699C8-57F3-4922-A351-EB13B21E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EEFF7-AB9F-452E-A48A-2875B7A6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F26B3-D20C-4A17-9DDC-C55C8B7F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E096D-7ECC-473A-B318-BC08656F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50241-268E-4A68-B9DC-B5478798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FA086-1DB6-4F4E-8817-186DB381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1D7DF-F4FD-4580-B1A4-4C38E575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F1D-CAED-4C24-80D9-8A0928B7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E3D40-2103-4C52-B55A-399C97D8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04B7B-BE1E-479B-8C44-CD8C500B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8D042-9484-4E3C-9864-DAB25653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23373-EEE5-43FF-A9A3-9C2B0180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F3522-7D48-459D-B94D-A247B613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4F52B-0723-4585-8A06-CA6C0ED7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277A1-AE4A-4047-A579-45F0DB25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06B21-5C6C-4B18-B35C-4E6A1DE5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FC8CD-408E-45F4-8206-F05CB80D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F7F6F-A856-4F53-8D3C-AE2FBFA5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2E0-78EB-4100-BA39-EAA8DDBA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38D83-B28E-449F-AE8C-7F1BB085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A6562-DEC6-4B18-A2F8-07471CF7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E8FD9-B426-4631-9F68-8A477840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46480-C4F5-40CB-BEAE-B8246C71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1ACB0-1336-41AA-929D-B7682CFD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797D9-4951-4257-9540-4FF07357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C1A52-2193-4E82-A5C0-1D29CE4C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26078-697E-413F-803A-87E1A8AB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83F3C-957E-4945-9E43-0577532E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7E1F1-DD60-45B3-A995-B1536544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396C-4805-43C5-A007-B02A0FC6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6B6AB-4779-4228-B51D-D53A1AD1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D69E9-86A1-4A62-9C5E-D68788EB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7076D-1CF9-4894-A35C-424013F8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F1F7A-4516-4007-A73C-61E456A0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283B5-D77F-4CBB-BBFC-1C4A57F4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769D8-C010-4798-8012-0A55975F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8BF84-57CA-4FAB-A487-F300C811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DBB8A-AED4-4C52-A2A9-B8852783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BBD95-B8A4-4BE6-9148-A0288170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40CE3-10F3-49DB-A7FC-34423763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D8A-560E-44C7-823B-B7D312E3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1E517-6E42-4A29-991E-CB0541A9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530A0-B080-455B-9AA3-7C852B55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4FC9B-E29C-4E75-96D9-6C010DC3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BDCFB-A9BF-48C0-B953-37DAE099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B94C5-34CF-486D-93FD-70021872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B9B2A-489F-4856-8465-AECF6278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E58D4-5964-461E-8ACC-AC513B47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52570-2BDE-48E0-AC7A-4B3360ED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21BF1-1211-4E71-9874-A0597218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19A0C-8FCD-4DC7-A0DF-F2CB10D3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EC14-5ED9-4C5C-A576-456B1C95E12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9030-B43A-4E06-AB61-220C5DF941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D2A4-BDB0-4E4D-9737-115D8CC4296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0971-8BCF-4AF4-BCA8-FB8054E193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1905-D86B-433C-AB89-0989A1D9C0A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A43F-40EB-46FE-ACA1-5BCBB48F02F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4418-06DF-4F94-802D-7188F6FF9E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4413-F0B9-450C-A0DC-3DF261FEE35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3F1C-F887-43B2-A125-859CD9C1655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3304-607D-4DA2-A2AF-351EBBCC34D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662B-0E9C-4CCF-B8FA-F7C1B16E3BD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4B56-CD45-443A-9378-05BE5496421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34 Viac poznať Pána túžbu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500" spc="-1" strike="noStrike">
                <a:solidFill>
                  <a:srgbClr val="ffffff"/>
                </a:solidFill>
                <a:latin typeface="Arial"/>
              </a:rPr>
              <a:t>Viac poznať Pána túžbu mám,</a:t>
            </a:r>
            <a:br>
              <a:rPr sz="4500"/>
            </a:br>
            <a:r>
              <a:rPr b="1" lang="sk-SK" sz="4500" spc="-1" strike="noStrike">
                <a:solidFill>
                  <a:srgbClr val="ffffff"/>
                </a:solidFill>
                <a:latin typeface="Arial"/>
              </a:rPr>
              <a:t>chcem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500" spc="-1" strike="noStrike">
                <a:solidFill>
                  <a:srgbClr val="ffffff"/>
                </a:solidFill>
                <a:latin typeface="Arial"/>
              </a:rPr>
              <a:t>chodiť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5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500" spc="-1" strike="noStrike">
                <a:solidFill>
                  <a:srgbClr val="ffffff"/>
                </a:solidFill>
                <a:latin typeface="Arial"/>
              </a:rPr>
              <a:t>ním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500" spc="-1" strike="noStrike">
                <a:solidFill>
                  <a:srgbClr val="ffffff"/>
                </a:solidFill>
                <a:latin typeface="Arial"/>
              </a:rPr>
              <a:t>nikdy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500" spc="-1" strike="noStrike">
                <a:solidFill>
                  <a:srgbClr val="ffffff"/>
                </a:solidFill>
                <a:latin typeface="Arial"/>
              </a:rPr>
              <a:t>sám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4500"/>
            </a:br>
            <a:r>
              <a:rPr b="1" lang="sk-SK" sz="4500" spc="-1" strike="noStrike">
                <a:solidFill>
                  <a:srgbClr val="ffffff"/>
                </a:solidFill>
                <a:latin typeface="Arial"/>
              </a:rPr>
              <a:t>keď jeho lásku pochopím,</a:t>
            </a:r>
            <a:br>
              <a:rPr sz="4500"/>
            </a:br>
            <a:r>
              <a:rPr b="1" lang="sk-SK" sz="4500" spc="-1" strike="noStrike">
                <a:solidFill>
                  <a:srgbClr val="ffffff"/>
                </a:solidFill>
                <a:latin typeface="Arial"/>
              </a:rPr>
              <a:t>viac z jeho krásy uvidí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iac poznať Pá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iac poznať Pán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jeho lásku pochop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ac z jeho krásy uvid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deň čo deň mi dáva zn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o mňa dbá, že má ma rád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jeho lásky náruč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neho viac sa nauč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iac poznať Pá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iac poznať Pán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jeho lásku pochop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ac z jeho krásy uvid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ac poznať Pán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Písma smiem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preto ho denne skúmať chcem,</a:t>
            </a:r>
            <a:br>
              <a:rPr sz="47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čujem z neho spásny hlas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šnici, poďte, prijmem vá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iac poznať Pá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iac poznať Pán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jeho lásku pochop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ac z jeho krásy uvid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Pán mi dať môže viac než svet,</a:t>
            </a:r>
            <a:br>
              <a:rPr sz="47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acej než smiem si pomysl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ozbroje všetky stíšiť v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rdcu pokoj dar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iac poznať Pá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iac poznať Pán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jeho lásku pochop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ac z jeho krásy uvidí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3-25T15:31:02Z</dcterms:modified>
  <cp:revision>21</cp:revision>
  <dc:subject/>
  <dc:title>Je veľký náš Pán, on slávy je Kráľ Nech do všetkých strán  spev vrúcnych znie chvál.</dc:title>
</cp:coreProperties>
</file>